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6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7.jpeg" ContentType="image/jpeg"/>
  <Override PartName="/ppt/media/image28.jpeg" ContentType="image/jpeg"/>
  <Override PartName="/ppt/media/image34.jpeg" ContentType="image/jpeg"/>
  <Override PartName="/ppt/media/image12.jpeg" ContentType="image/jpeg"/>
  <Override PartName="/ppt/media/image11.jpeg" ContentType="image/jpeg"/>
  <Override PartName="/ppt/media/image9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13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7.jpeg" ContentType="image/jpeg"/>
  <Override PartName="/ppt/media/image30.png" ContentType="image/png"/>
  <Override PartName="/ppt/media/image3.jpeg" ContentType="image/jpeg"/>
  <Override PartName="/ppt/media/image24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CC5A6-6B11-41D3-B12D-A182B09F8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7644A-1560-4351-AAA8-84D24C66D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8749D-95EE-4B2F-B125-BD7121395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0C397-F838-4E02-BEBB-A59652F96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B4CBC-0163-4A6A-BAA3-D686C7DA2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F3A62-4823-4DCC-9599-4A52E934F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124C4-BAB6-4EB1-86BB-B7C5B23F2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80D53-677A-4C4E-95A2-895F32DFB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EEE38-C977-4080-87A6-44F8906F2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7B5B9-4479-4856-9D2D-77A16C14C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9CFD8-36D4-4D1D-A29D-3300DFB6B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B46C5-B53C-4165-88D8-E673612C5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0DA6D-09A5-4503-8846-04FE6A8DC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E1D86-666F-4A53-B2C8-1455D4367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F3879-6ABA-445C-B28B-26AFCB4A8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9EEC8-0269-4DAC-BBF9-54775E3CD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79DF5-3E9A-4BC3-9845-4D5DF1757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15F74-97BC-403C-804E-D2C1ED188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E9F0A-8992-41E2-9F51-5DC1A0A70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CA927-F88C-4288-BEFF-476DA47E7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C5177-4FEB-44C5-A2B2-7ED924698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71436-FA93-4631-B9D2-493C8B80F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44337-6BDF-4E0A-8693-CF33960DC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E541F-C83A-4748-B1E7-7549547BE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c79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C71B7-6956-4651-9229-24AE32CA1D6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c79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78C1B-C111-410E-91A7-FD88CD4E6D1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538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26d18"/>
                </a:solidFill>
                <a:latin typeface="Times New Roman"/>
              </a:rPr>
              <a:t>Кемерово – город трудовой доблести и славы Кузбасса и России.</a:t>
            </a:r>
            <a:br>
              <a:rPr sz="4400"/>
            </a:b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Picture 4" descr="366268c6-1daa-08d2-1f8d-21a981d0c4fd"/>
          <p:cNvPicPr/>
          <p:nvPr/>
        </p:nvPicPr>
        <p:blipFill>
          <a:blip r:embed="rId1"/>
          <a:stretch/>
        </p:blipFill>
        <p:spPr>
          <a:xfrm>
            <a:off x="0" y="0"/>
            <a:ext cx="9144000" cy="70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Главное богатство края – это его люди. Нас более 3 миллионов человек. Почетные граждане нашего города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25560" y="475920"/>
            <a:ext cx="3970080" cy="565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Михаил Алексеевич Подгорбунский – заслуженный врач России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Рисунок 4" descr="http://www.sib.net/wp-content/uploads/2010/10/podgorbunskiy.jpg"/>
          <p:cNvPicPr/>
          <p:nvPr/>
        </p:nvPicPr>
        <p:blipFill>
          <a:blip r:embed="rId1"/>
          <a:stretch/>
        </p:blipFill>
        <p:spPr>
          <a:xfrm>
            <a:off x="4788000" y="692280"/>
            <a:ext cx="417672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94960" y="124920"/>
            <a:ext cx="6645240" cy="13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514160" y="333000"/>
            <a:ext cx="6024600" cy="591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Участник Великой Отечественной войны, подполковник медицинской службы, с октября 1941 года - главный хирург Красной Армии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26d18"/>
                </a:solidFill>
                <a:latin typeface="Times New Roman"/>
              </a:rPr>
              <a:t>Третья городская больница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pic>
        <p:nvPicPr>
          <p:cNvPr id="154" name="Объект 3" descr="http://static.panoramio.com/photos/large/91712170.jpg"/>
          <p:cNvPicPr/>
          <p:nvPr/>
        </p:nvPicPr>
        <p:blipFill>
          <a:blip r:embed="rId1"/>
          <a:stretch/>
        </p:blipFill>
        <p:spPr>
          <a:xfrm>
            <a:off x="947880" y="1600200"/>
            <a:ext cx="724824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25200" y="475920"/>
            <a:ext cx="3825720" cy="565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Александр Николаевич Кирчанов </a:t>
            </a: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– 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художник-живописец, прославивший Сибирский край своими картинами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Picture 5" descr="http://xn----8sbenbrquebb4afq7e.xn--p1ai/uploads/newsimage/img_905_main.jpg"/>
          <p:cNvPicPr/>
          <p:nvPr/>
        </p:nvPicPr>
        <p:blipFill>
          <a:blip r:embed="rId1"/>
          <a:stretch/>
        </p:blipFill>
        <p:spPr>
          <a:xfrm>
            <a:off x="4572000" y="907920"/>
            <a:ext cx="454644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26d18"/>
                </a:solidFill>
                <a:latin typeface="Times New Roman"/>
              </a:rPr>
              <a:t>«Дети из страны СССР»</a:t>
            </a:r>
            <a:endParaRPr b="1" lang="en-US" sz="3200" spc="-1" strike="noStrike">
              <a:solidFill>
                <a:srgbClr val="a26d18"/>
              </a:solidFill>
              <a:latin typeface="Times New Roman"/>
            </a:endParaRPr>
          </a:p>
        </p:txBody>
      </p:sp>
      <p:pic>
        <p:nvPicPr>
          <p:cNvPr id="159" name="Picture 6" descr="http://amnesia.pavelbers.com/_deti_SSSR9.jpg"/>
          <p:cNvPicPr/>
          <p:nvPr/>
        </p:nvPicPr>
        <p:blipFill>
          <a:blip r:embed="rId1"/>
          <a:stretch/>
        </p:blipFill>
        <p:spPr>
          <a:xfrm>
            <a:off x="457200" y="1420920"/>
            <a:ext cx="8435880" cy="532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26d18"/>
                </a:solidFill>
                <a:latin typeface="Times New Roman"/>
              </a:rPr>
              <a:t>«Солдаты идут»</a:t>
            </a:r>
            <a:endParaRPr b="1" lang="en-US" sz="32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Picture 4" descr="http://ablhreb.virtualrm.spb.ru/files/images/%20%D0%90.%D0%9D.%20-%20%D0%A1%D0%BE%D0%BB%D0%B4%D0%B0%D1%82%D1%8B%20%D0%B8%D0%B4%D1%83%D1%82.%201945.%20%D0%91%D1%83%D0%BC%D0%B0%D0%B3%D0%B0%20%D0%B6%D0%B5%D0%BB%D1%82%D0%B0%D1%8F,%20%D1%82%D1%83%D1%88%D1%8C.%20%D0%9A%D0%9E%D0%9C%D0%98%D0%98.preview.jpg"/>
          <p:cNvPicPr/>
          <p:nvPr/>
        </p:nvPicPr>
        <p:blipFill>
          <a:blip r:embed="rId1"/>
          <a:stretch/>
        </p:blipFill>
        <p:spPr>
          <a:xfrm>
            <a:off x="755640" y="1420920"/>
            <a:ext cx="7416720" cy="52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25200" y="475920"/>
            <a:ext cx="3825720" cy="565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ера Даниловна Волошина – ученица 12-ой средней школы, отважная разведчица, пала смертью храбрых. Ее именем названы школа, улица, центр дополнительного образования детей в городе Кемерово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Рисунок 4" descr="http://www.ruc.su/upload/medialibrary/c93/Vera_Voloshina.jpg"/>
          <p:cNvPicPr/>
          <p:nvPr/>
        </p:nvPicPr>
        <p:blipFill>
          <a:blip r:embed="rId1"/>
          <a:stretch/>
        </p:blipFill>
        <p:spPr>
          <a:xfrm>
            <a:off x="4546440" y="-15840"/>
            <a:ext cx="4572000" cy="683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26d18"/>
                </a:solidFill>
                <a:latin typeface="Times New Roman"/>
              </a:rPr>
              <a:t>Улица им. Веры Волошиной</a:t>
            </a:r>
            <a:endParaRPr b="1" lang="en-US" sz="3200" spc="-1" strike="noStrike">
              <a:solidFill>
                <a:srgbClr val="a26d18"/>
              </a:solidFill>
              <a:latin typeface="Times New Roman"/>
            </a:endParaRPr>
          </a:p>
        </p:txBody>
      </p:sp>
      <p:pic>
        <p:nvPicPr>
          <p:cNvPr id="167" name="Picture 2" descr="http://xn--c1aadp2aaaots.xn--p1ai/fotos/crossroads/7/116/IMG_8084.JPG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50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423800" y="4478400"/>
            <a:ext cx="9597960" cy="617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6" descr="http://photos.wikimapia.org/p/00/02/19/91/23_big.jpg"/>
          <p:cNvPicPr/>
          <p:nvPr/>
        </p:nvPicPr>
        <p:blipFill>
          <a:blip r:embed="rId1"/>
          <a:stretch/>
        </p:blipFill>
        <p:spPr>
          <a:xfrm>
            <a:off x="250920" y="277920"/>
            <a:ext cx="8642160" cy="62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26d18"/>
                </a:solidFill>
                <a:latin typeface="Times New Roman"/>
              </a:rPr>
              <a:t>Центр дополнительного образования детей</a:t>
            </a:r>
            <a:endParaRPr b="1" lang="en-US" sz="3200" spc="-1" strike="noStrike">
              <a:solidFill>
                <a:srgbClr val="a26d18"/>
              </a:solidFill>
              <a:latin typeface="Times New Roman"/>
            </a:endParaRPr>
          </a:p>
        </p:txBody>
      </p:sp>
      <p:pic>
        <p:nvPicPr>
          <p:cNvPr id="169" name="Picture 2" descr="https://avatars.mds.yandex.net/get-altay/240733/2a0000015e6139ffd39f1ef84238e70062d9/L"/>
          <p:cNvPicPr/>
          <p:nvPr/>
        </p:nvPicPr>
        <p:blipFill>
          <a:blip r:embed="rId1"/>
          <a:stretch/>
        </p:blipFill>
        <p:spPr>
          <a:xfrm>
            <a:off x="457200" y="1557360"/>
            <a:ext cx="8229600" cy="51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25200" y="475920"/>
            <a:ext cx="3825720" cy="565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лларион Романович Васильев – Герой Советского Союза, панфиловец, у разъезда Дубосеково стоял насмерть, но врага остановил. Его имя носит улица в Центральном район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Рисунок 4" descr="http://i048.radikal.ru/1107/8c/521df620b8e1.jpg"/>
          <p:cNvPicPr/>
          <p:nvPr/>
        </p:nvPicPr>
        <p:blipFill>
          <a:blip r:embed="rId1"/>
          <a:stretch/>
        </p:blipFill>
        <p:spPr>
          <a:xfrm>
            <a:off x="5257800" y="473040"/>
            <a:ext cx="3429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a26d18"/>
              </a:solidFill>
              <a:latin typeface="Times New Roman"/>
            </a:endParaRPr>
          </a:p>
        </p:txBody>
      </p:sp>
      <p:pic>
        <p:nvPicPr>
          <p:cNvPr id="174" name="Picture 6" descr="http://static.panoramio.com/photos/large/53416152.jpg"/>
          <p:cNvPicPr/>
          <p:nvPr/>
        </p:nvPicPr>
        <p:blipFill>
          <a:blip r:embed="rId1"/>
          <a:stretch/>
        </p:blipFill>
        <p:spPr>
          <a:xfrm>
            <a:off x="611280" y="620640"/>
            <a:ext cx="8075520" cy="54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25560" y="475920"/>
            <a:ext cx="3178080" cy="565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лексей Архипович Леонов – летчик-космонавт, наш земляк. В его честь названа улица в Кировском район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Рисунок 4" descr="https://yaostrov.ru/media/k2/items/cache/4a122584fa6cd9cb0504fe8994d118fb_XL.jpg?t=1401451399"/>
          <p:cNvPicPr/>
          <p:nvPr/>
        </p:nvPicPr>
        <p:blipFill>
          <a:blip r:embed="rId1"/>
          <a:stretch/>
        </p:blipFill>
        <p:spPr>
          <a:xfrm>
            <a:off x="3419640" y="849240"/>
            <a:ext cx="5724360" cy="48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a26d18"/>
              </a:solidFill>
              <a:latin typeface="Times New Roman"/>
            </a:endParaRPr>
          </a:p>
        </p:txBody>
      </p:sp>
      <p:pic>
        <p:nvPicPr>
          <p:cNvPr id="179" name="Picture 2" descr="https://cdn.n1.ru/cache/realty/photo/363a5cd31628ea2c6bb6f06a15526e52_1200_800_cp.jpg"/>
          <p:cNvPicPr/>
          <p:nvPr/>
        </p:nvPicPr>
        <p:blipFill>
          <a:blip r:embed="rId1"/>
          <a:stretch/>
        </p:blipFill>
        <p:spPr>
          <a:xfrm>
            <a:off x="250920" y="262080"/>
            <a:ext cx="8435880" cy="63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a26d18"/>
              </a:solidFill>
              <a:latin typeface="Times New Roman"/>
            </a:endParaRPr>
          </a:p>
        </p:txBody>
      </p:sp>
      <p:pic>
        <p:nvPicPr>
          <p:cNvPr id="181" name="Picture 6" descr="http://kakdobratsyado.ru/wp-content/uploads/2016/02/Aeroport-Kemerovo.jpg"/>
          <p:cNvPicPr/>
          <p:nvPr/>
        </p:nvPicPr>
        <p:blipFill>
          <a:blip r:embed="rId1"/>
          <a:stretch/>
        </p:blipFill>
        <p:spPr>
          <a:xfrm>
            <a:off x="457200" y="476280"/>
            <a:ext cx="8155080" cy="54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26920" y="212400"/>
            <a:ext cx="4772160" cy="132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800"/>
            </a:br>
            <a:br>
              <a:rPr sz="2800"/>
            </a:br>
            <a:endParaRPr b="1" lang="en-US" sz="2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501480" y="476280"/>
            <a:ext cx="4408560" cy="577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вой первый космический полет Алексей Леонов совершил в экипаже с Павлом Беляевым на космическом корабле "Восход-2". Этот полет на «Восходе-2» был тяжелейший. По количеству аварий, наверное, самый сложный за всю историю отечественной космонавтики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8 марта 1965 года Леонов первым вышел в безвоздушное пространство.  В открытом космосе он пробыл 12 минут и 9 секунд, причем чуть не лишился жизни из-за раздувшегося в связи с избыточным давлением скафандра, который мешал ему вернуться в шлюз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Picture 2" descr="Скафандры для космоса - Vita Germetica"/>
          <p:cNvPicPr/>
          <p:nvPr/>
        </p:nvPicPr>
        <p:blipFill>
          <a:blip r:embed="rId1"/>
          <a:stretch/>
        </p:blipFill>
        <p:spPr>
          <a:xfrm>
            <a:off x="5364000" y="1628640"/>
            <a:ext cx="3446640" cy="36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457200" y="452520"/>
            <a:ext cx="8229600" cy="54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осле выхода на пенсию в 1991 году генерал-майор авиации Леонов посвятил себя живописи. Он создал уже более 100 акварельных и живописных работ. Картины космонавта выставлялись во многих странах мира, а Российская академия художеств в 2004 году избрала его своим почетным академиком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a26d18"/>
              </a:solidFill>
              <a:latin typeface="Times New Roman"/>
            </a:endParaRPr>
          </a:p>
        </p:txBody>
      </p:sp>
      <p:pic>
        <p:nvPicPr>
          <p:cNvPr id="188" name="Объект 3" descr="Апрель &quot; 2009 &quot; А-Блог: корпоративный блог ЗАО &quot;Альфа-Банк&quot; …"/>
          <p:cNvPicPr/>
          <p:nvPr/>
        </p:nvPicPr>
        <p:blipFill>
          <a:blip r:embed="rId1"/>
          <a:stretch/>
        </p:blipFill>
        <p:spPr>
          <a:xfrm>
            <a:off x="755640" y="378000"/>
            <a:ext cx="7632720" cy="2835000"/>
          </a:xfrm>
          <a:prstGeom prst="rect">
            <a:avLst/>
          </a:prstGeom>
          <a:ln w="0">
            <a:noFill/>
          </a:ln>
        </p:spPr>
      </p:pic>
      <p:pic>
        <p:nvPicPr>
          <p:cNvPr id="189" name="Объект 3" descr="&quot;Космическая&quot; живопись на выставке космонавта Алексея Леонова в Омске Ты - репортёр &quot;Ты - репортер&quot;: новости от очевидцев. Фото,"/>
          <p:cNvPicPr/>
          <p:nvPr/>
        </p:nvPicPr>
        <p:blipFill>
          <a:blip r:embed="rId2"/>
          <a:stretch/>
        </p:blipFill>
        <p:spPr>
          <a:xfrm>
            <a:off x="324000" y="3789360"/>
            <a:ext cx="3890880" cy="2519280"/>
          </a:xfrm>
          <a:prstGeom prst="rect">
            <a:avLst/>
          </a:prstGeom>
          <a:ln w="0">
            <a:noFill/>
          </a:ln>
        </p:spPr>
      </p:pic>
      <p:pic>
        <p:nvPicPr>
          <p:cNvPr id="190" name="Рисунок 5" descr="&quot;Космическая&quot; живопись на выставке космонавта Алексея Леонова в Омске Ты - репортёр &quot;Ты - репортер&quot;: новости от очевидцев. Фото,"/>
          <p:cNvPicPr/>
          <p:nvPr/>
        </p:nvPicPr>
        <p:blipFill>
          <a:blip r:embed="rId3"/>
          <a:stretch/>
        </p:blipFill>
        <p:spPr>
          <a:xfrm>
            <a:off x="4932360" y="3933720"/>
            <a:ext cx="410364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Кемерово – промышленный центр Кузбасса. На его территории много шахт, где добывают каменный уголь. Что дает нам уголь?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a26d18"/>
              </a:solidFill>
              <a:latin typeface="Times New Roman"/>
            </a:endParaRPr>
          </a:p>
        </p:txBody>
      </p:sp>
      <p:pic>
        <p:nvPicPr>
          <p:cNvPr id="126" name="Picture 2" descr="https://i.artfile.me/wallpaper/21-01-2017/1366x768/priroda-reki-ozera-tom-reka-sibir-1121191.jpg"/>
          <p:cNvPicPr/>
          <p:nvPr/>
        </p:nvPicPr>
        <p:blipFill>
          <a:blip r:embed="rId1"/>
          <a:stretch/>
        </p:blipFill>
        <p:spPr>
          <a:xfrm>
            <a:off x="176040" y="549360"/>
            <a:ext cx="4421520" cy="24858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4" descr="https://xn----8sbiecm6bhdx8i.xn--p1ai/sites/default/files/images/okruzhayushhij_mir/Kemerovskaya_oblast_2.jpg"/>
          <p:cNvPicPr/>
          <p:nvPr/>
        </p:nvPicPr>
        <p:blipFill>
          <a:blip r:embed="rId2"/>
          <a:stretch/>
        </p:blipFill>
        <p:spPr>
          <a:xfrm>
            <a:off x="1079640" y="3573360"/>
            <a:ext cx="3816360" cy="28623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6" descr="http://images.vfl.ru/ii/1357473288/69291ea9/1515251_m.jpg"/>
          <p:cNvPicPr/>
          <p:nvPr/>
        </p:nvPicPr>
        <p:blipFill>
          <a:blip r:embed="rId3"/>
          <a:stretch/>
        </p:blipFill>
        <p:spPr>
          <a:xfrm>
            <a:off x="5194440" y="1916280"/>
            <a:ext cx="3736800" cy="280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25560" y="475920"/>
            <a:ext cx="3178080" cy="565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 знаете ли вы, что уголь используют для приготовления красок, резины, лекарства и пластмассы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Picture 4" descr="http://www.topazplast.com/wp-content/uploads/2016/07/Products.png"/>
          <p:cNvPicPr/>
          <p:nvPr/>
        </p:nvPicPr>
        <p:blipFill>
          <a:blip r:embed="rId1"/>
          <a:stretch/>
        </p:blipFill>
        <p:spPr>
          <a:xfrm>
            <a:off x="3203640" y="2022480"/>
            <a:ext cx="3095640" cy="206532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8" descr="http://rez.in.ua/d/665639/d/2433931621_7.jpg"/>
          <p:cNvPicPr/>
          <p:nvPr/>
        </p:nvPicPr>
        <p:blipFill>
          <a:blip r:embed="rId2"/>
          <a:stretch/>
        </p:blipFill>
        <p:spPr>
          <a:xfrm>
            <a:off x="5796000" y="1395360"/>
            <a:ext cx="3098880" cy="18432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0" descr="http://lakokraska-yar.ru/img/l1.jpg"/>
          <p:cNvPicPr/>
          <p:nvPr/>
        </p:nvPicPr>
        <p:blipFill>
          <a:blip r:embed="rId3"/>
          <a:stretch/>
        </p:blipFill>
        <p:spPr>
          <a:xfrm>
            <a:off x="6626160" y="4732200"/>
            <a:ext cx="2087640" cy="147492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2" descr="http://polnaymoda.ru/wp-content/uploads/2016/03/%D0%B0%D0%BA%D1%82%D0%B8%D0%B2%D0%B8%D1%80%D0%BE%D0%B2%D0%B0%D0%BD%D0%BD%D1%8B%D0%B9-%D1%83%D0%B3%D0%BE%D0%BB%D1%8C-%D0%B4%D0%BB%D1%8F-%D0%BE%D1%87%D0%B8%D1%89%D0%B5%D0%BD%D0%B8%D1%8F-%D0%BE%D1%80%D0%B3%D0%B0%D0%BD%D0%B8%D0%B7%D0%BC%D0%B0.jpg"/>
          <p:cNvPicPr/>
          <p:nvPr/>
        </p:nvPicPr>
        <p:blipFill>
          <a:blip r:embed="rId4"/>
          <a:stretch/>
        </p:blipFill>
        <p:spPr>
          <a:xfrm>
            <a:off x="3419640" y="4711680"/>
            <a:ext cx="1974600" cy="14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a26d18"/>
              </a:solidFill>
              <a:latin typeface="Times New Roman"/>
            </a:endParaRPr>
          </a:p>
        </p:txBody>
      </p:sp>
      <p:pic>
        <p:nvPicPr>
          <p:cNvPr id="200" name="Объект 3" descr="http://images.myshared.ru/4/144473/slide_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26d18"/>
                </a:solidFill>
                <a:latin typeface="Times New Roman"/>
              </a:rPr>
              <a:t>Площадь А.С. Пушкина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pic>
        <p:nvPicPr>
          <p:cNvPr id="202" name="Picture 2" descr="http://photos.lifeisphoto.ru/24/0/246943.jpg"/>
          <p:cNvPicPr/>
          <p:nvPr/>
        </p:nvPicPr>
        <p:blipFill>
          <a:blip r:embed="rId1"/>
          <a:stretch/>
        </p:blipFill>
        <p:spPr>
          <a:xfrm>
            <a:off x="1289160" y="1420920"/>
            <a:ext cx="6565680" cy="47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a26d18"/>
              </a:solidFill>
              <a:latin typeface="Times New Roman"/>
            </a:endParaRPr>
          </a:p>
        </p:txBody>
      </p:sp>
      <p:pic>
        <p:nvPicPr>
          <p:cNvPr id="204" name="Picture 2" descr="http://lass.veryphoto.ru/img-q5y5x5n416b41454b4b4n416u5f5m4q4v2w5q4/files/content_images/20121110130240.jpg"/>
          <p:cNvPicPr/>
          <p:nvPr/>
        </p:nvPicPr>
        <p:blipFill>
          <a:blip r:embed="rId1"/>
          <a:stretch/>
        </p:blipFill>
        <p:spPr>
          <a:xfrm>
            <a:off x="179280" y="476280"/>
            <a:ext cx="8785440" cy="56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" name="Picture 4" descr="d536bdb9-dce2-6941-64a8-f06712a5f72f"/>
          <p:cNvPicPr/>
          <p:nvPr/>
        </p:nvPicPr>
        <p:blipFill>
          <a:blip r:embed="rId1"/>
          <a:stretch/>
        </p:blipFill>
        <p:spPr>
          <a:xfrm>
            <a:off x="0" y="0"/>
            <a:ext cx="9144000" cy="710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a26d18"/>
              </a:solidFill>
              <a:latin typeface="Times New Roman"/>
            </a:endParaRPr>
          </a:p>
        </p:txBody>
      </p:sp>
      <p:pic>
        <p:nvPicPr>
          <p:cNvPr id="209" name="Picture 2" descr="http://www.sibitc.com/userfiles/image/catalog/z1467953898.jpg"/>
          <p:cNvPicPr/>
          <p:nvPr/>
        </p:nvPicPr>
        <p:blipFill>
          <a:blip r:embed="rId1"/>
          <a:stretch/>
        </p:blipFill>
        <p:spPr>
          <a:xfrm>
            <a:off x="457200" y="277920"/>
            <a:ext cx="8362800" cy="610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88640"/>
            <a:ext cx="8229600" cy="59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вет любви, добра неугасимый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емерово – город на Томи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ород мой до камушка родимый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ороги мне улицы тво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лочки, проспекты и аллеи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сходил я вдоль и поперек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ичего на свете нет роднее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ердцу милый с детства уголок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 рекой березовая роща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ервые свиданья у моста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городе, где Пушкинская площадь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Юности любимые мест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 земле одна у нас забота –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Жить в согласии, только лишь всего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то очень трудная работа –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троить город и любить его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25200" y="475920"/>
            <a:ext cx="3825720" cy="565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ействительно, если всмотреться в карту Кузбасса, то она похожа на сердце, центром которого является город Кемерово. Наш город – не воин и не герой.  Но в народной памяти сохранились сведения о здешних местах и землепроходца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Объект 3" descr=""/>
          <p:cNvPicPr/>
          <p:nvPr/>
        </p:nvPicPr>
        <p:blipFill>
          <a:blip r:embed="rId1"/>
          <a:stretch/>
        </p:blipFill>
        <p:spPr>
          <a:xfrm>
            <a:off x="4535640" y="0"/>
            <a:ext cx="4608360" cy="704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a26d18"/>
              </a:solidFill>
              <a:latin typeface="Times New Roman"/>
            </a:endParaRPr>
          </a:p>
        </p:txBody>
      </p:sp>
      <p:pic>
        <p:nvPicPr>
          <p:cNvPr id="133" name="Объект 3" descr="https://ds04.infourok.ru/uploads/ex/047b/0000047a-14397190/img9.jpg"/>
          <p:cNvPicPr/>
          <p:nvPr/>
        </p:nvPicPr>
        <p:blipFill>
          <a:blip r:embed="rId1"/>
          <a:stretch/>
        </p:blipFill>
        <p:spPr>
          <a:xfrm>
            <a:off x="-55440" y="0"/>
            <a:ext cx="9144000" cy="70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a26d18"/>
              </a:solidFill>
              <a:latin typeface="Times New Roman"/>
            </a:endParaRPr>
          </a:p>
        </p:txBody>
      </p:sp>
      <p:pic>
        <p:nvPicPr>
          <p:cNvPr id="135" name="Объект 3" descr="http://oldkemerovo.ru/wp-content/uploads/2011/04/208-1024x456.jpg"/>
          <p:cNvPicPr/>
          <p:nvPr/>
        </p:nvPicPr>
        <p:blipFill>
          <a:blip r:embed="rId1"/>
          <a:stretch/>
        </p:blipFill>
        <p:spPr>
          <a:xfrm>
            <a:off x="0" y="277920"/>
            <a:ext cx="9144000" cy="617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a26d18"/>
              </a:solidFill>
              <a:latin typeface="Times New Roman"/>
            </a:endParaRPr>
          </a:p>
        </p:txBody>
      </p:sp>
      <p:pic>
        <p:nvPicPr>
          <p:cNvPr id="137" name="Объект 3" descr="http://oldkemerovo.ru/wp-content/uploads/2017/03/Avtovokzal-1966-g.-1024x625.jpg"/>
          <p:cNvPicPr/>
          <p:nvPr/>
        </p:nvPicPr>
        <p:blipFill>
          <a:blip r:embed="rId1"/>
          <a:stretch/>
        </p:blipFill>
        <p:spPr>
          <a:xfrm>
            <a:off x="0" y="692280"/>
            <a:ext cx="4427640" cy="5113080"/>
          </a:xfrm>
          <a:prstGeom prst="rect">
            <a:avLst/>
          </a:prstGeom>
          <a:ln w="0">
            <a:noFill/>
          </a:ln>
        </p:spPr>
      </p:pic>
      <p:pic>
        <p:nvPicPr>
          <p:cNvPr id="138" name="Рисунок 4" descr="http://photos.wikimapia.org/p/00/01/98/84/40_big.jpg"/>
          <p:cNvPicPr/>
          <p:nvPr/>
        </p:nvPicPr>
        <p:blipFill>
          <a:blip r:embed="rId2"/>
          <a:stretch/>
        </p:blipFill>
        <p:spPr>
          <a:xfrm>
            <a:off x="4524480" y="836640"/>
            <a:ext cx="461952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a26d18"/>
              </a:solidFill>
              <a:latin typeface="Times New Roman"/>
            </a:endParaRPr>
          </a:p>
        </p:txBody>
      </p:sp>
      <p:pic>
        <p:nvPicPr>
          <p:cNvPr id="140" name="Объект 3" descr="https://ds04.infourok.ru/uploads/ex/1042/0003cd49-b4193b72/img4.jpg"/>
          <p:cNvPicPr/>
          <p:nvPr/>
        </p:nvPicPr>
        <p:blipFill>
          <a:blip r:embed="rId1"/>
          <a:stretch/>
        </p:blipFill>
        <p:spPr>
          <a:xfrm>
            <a:off x="425520" y="503280"/>
            <a:ext cx="826128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052640"/>
            <a:ext cx="8229600" cy="507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 первых дней Великой Отечественной войны тысячи кемеровчан подали заявления с просьбой отправить их на защиту Родины, уходили на фронт целыми семьями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«В Кузбассе не было войны, но бесконечны павших списки. В Кузбассе не было войны, но в городах есть обелиски…»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3T10:21:22Z</dcterms:created>
  <dc:creator>Admin</dc:creator>
  <dc:description/>
  <dc:language>en-US</dc:language>
  <cp:lastModifiedBy>Елена Розко</cp:lastModifiedBy>
  <dcterms:modified xsi:type="dcterms:W3CDTF">2018-05-05T09:30:30Z</dcterms:modified>
  <cp:revision>49</cp:revision>
  <dc:subject/>
  <dc:title>Слайд 1</dc:title>
</cp:coreProperties>
</file>